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1A9-41E7-4168-B6D2-9F3C7C2A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2F9-F900-4026-9886-1F03AC3D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799-A398-48BF-94D5-DDA59AB4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7F2-5415-46D0-B76E-15C4F0C5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7FC-ABF7-4098-AF4E-513F9A61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556-C68A-4BBB-8C30-F0A063A1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CAB-5345-476D-BA0B-6787EF49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05C-9E83-42F3-8BED-6570F80A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D33-3601-4B3A-A5D7-29851C90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342-98D3-4529-BF5D-FC8BB32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DDF-0B14-4C12-9680-B0A3E7CC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EC9-C343-40CE-86EB-F3539FC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0A65-3722-4FEF-916F-67431243DA90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images.google.co.uk/imgres?imgurl=http://www.dailycal.org/images/art/10.22.FieldHockey.KATZER.jpg&amp;imgrefurl=http://www.dailycal.org/article.php%3Fid%3D6760&amp;h=300&amp;w=320&amp;sz=20&amp;hl=en&amp;start=23&amp;um=1&amp;tbnid=Tg5AriYv2RrylM:&amp;tbnh=111&amp;tbnw=118&amp;prev=/images%3Fq%3Dfield%2Bhockey%26start%3D20%26ndsp%3D20%26svnum%3D10%26um%3D1%26hl%3Den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Preparation of the Body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Lesson 7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ednesday 30</a:t>
            </a:r>
            <a:r>
              <a:rPr b="1" lang="en-US" sz="4000" spc="-1" strike="noStrike" baseline="30000">
                <a:solidFill>
                  <a:srgbClr val="0000ff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September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signing a Training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16280"/>
            <a:ext cx="89154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ke sure you include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long the programme will las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often she will trai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hat method of training she will us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ow will you ensure she progresses over tim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936720"/>
            <a:ext cx="8534520" cy="59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You will be given a mid-block test on Wednesday 7</a:t>
            </a:r>
            <a:r>
              <a:rPr b="0" lang="en-GB" sz="28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th</a:t>
            </a: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 October to assess how much you know so far.  Spend the next week reading over your notes and revising what we have covered so far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You must study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Types of fitness important in hockey (physical, mental &amp; skill related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Methods of gathering information we have used to assess perform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Methods of training we have used to improve perform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981080"/>
            <a:ext cx="815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name and describe a method of training to improve spe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now the principles of training which need to be considered when designing a programme of work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show how the principles of training are appli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81080"/>
            <a:ext cx="815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y the end of this lesson you should all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name and describe a method of training to improve spe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Know the principles of training which need to be considered when designing a programme of work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e able to show how the principles of training are applied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981080"/>
            <a:ext cx="8153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Write down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gathering inform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methods of training to improve C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 principles of training you can change over time to improve C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Average Distance Cov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2388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38160" y="1393920"/>
          <a:ext cx="72072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393920"/>
                    <a:ext cx="72072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5013360"/>
            <a:ext cx="16761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066680"/>
            <a:ext cx="868680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though you may only sprint for around 11% of a game why do you think it is so important to have high levels of speed in hockey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udies show that over the course of a game a player may sprint around 60 times at an average distance of 15 metres.  What implications do you think this has for speed training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peed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523880"/>
            <a:ext cx="868680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n order to improve speed we would use interval training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It is vital that after each sprint, time is give for complete muscle recovery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he work:rest ratio is 1:4 or higher.  This means that for 10 seconds rest you should get 40 seconds recovery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Interval Training (Spe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905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ample: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2895480"/>
            <a:ext cx="8686440" cy="2568600"/>
            <a:chOff x="228600" y="2895480"/>
            <a:chExt cx="8686440" cy="2568600"/>
          </a:xfrm>
        </p:grpSpPr>
        <p:grpSp>
          <p:nvGrpSpPr>
            <p:cNvPr id="59" name=""/>
            <p:cNvGrpSpPr/>
            <p:nvPr/>
          </p:nvGrpSpPr>
          <p:grpSpPr>
            <a:xfrm>
              <a:off x="235800" y="2900160"/>
              <a:ext cx="8670960" cy="2558880"/>
              <a:chOff x="235800" y="2900160"/>
              <a:chExt cx="8670960" cy="255888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35800" y="2900160"/>
                <a:ext cx="2167200" cy="639720"/>
                <a:chOff x="235800" y="2900160"/>
                <a:chExt cx="2167200" cy="639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35800" y="2900160"/>
                  <a:ext cx="216720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35800" y="2900160"/>
                  <a:ext cx="2166840" cy="639720"/>
                  <a:chOff x="235800" y="2900160"/>
                  <a:chExt cx="2166840" cy="639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341640" y="2900160"/>
                    <a:ext cx="195552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REPETITI0NS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35800" y="2900160"/>
                    <a:ext cx="21668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2403360" y="2900160"/>
                <a:ext cx="2167560" cy="639720"/>
                <a:chOff x="2403360" y="2900160"/>
                <a:chExt cx="2167560" cy="639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403360" y="2900160"/>
                  <a:ext cx="216756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2403360" y="2900160"/>
                  <a:ext cx="2167200" cy="639720"/>
                  <a:chOff x="2403360" y="2900160"/>
                  <a:chExt cx="2167200" cy="63972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2509200" y="2900160"/>
                    <a:ext cx="195552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DISTANCE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403360" y="2900160"/>
                    <a:ext cx="21672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" name=""/>
              <p:cNvGrpSpPr/>
              <p:nvPr/>
            </p:nvGrpSpPr>
            <p:grpSpPr>
              <a:xfrm>
                <a:off x="4571640" y="2900160"/>
                <a:ext cx="2167200" cy="639720"/>
                <a:chOff x="4571640" y="2900160"/>
                <a:chExt cx="216720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571640" y="2900160"/>
                  <a:ext cx="216720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" name=""/>
                <p:cNvGrpSpPr/>
                <p:nvPr/>
              </p:nvGrpSpPr>
              <p:grpSpPr>
                <a:xfrm>
                  <a:off x="4571640" y="2900160"/>
                  <a:ext cx="2166840" cy="639720"/>
                  <a:chOff x="4571640" y="2900160"/>
                  <a:chExt cx="2166840" cy="63972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4676760" y="2900160"/>
                    <a:ext cx="195624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TIME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4571640" y="2900160"/>
                    <a:ext cx="21668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6739200" y="2900160"/>
                <a:ext cx="2167560" cy="639720"/>
                <a:chOff x="6739200" y="2900160"/>
                <a:chExt cx="2167560" cy="6397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739200" y="2900160"/>
                  <a:ext cx="2167560" cy="63972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6739200" y="2900160"/>
                  <a:ext cx="2167200" cy="639720"/>
                  <a:chOff x="6739200" y="2900160"/>
                  <a:chExt cx="2167200" cy="63972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6845040" y="2900160"/>
                    <a:ext cx="1955520" cy="639720"/>
                  </a:xfrm>
                  <a:prstGeom prst="rect">
                    <a:avLst/>
                  </a:prstGeom>
                  <a:solidFill>
                    <a:srgbClr val="ffff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ff"/>
                        </a:solidFill>
                        <a:latin typeface="Comic Sans MS"/>
                        <a:ea typeface="Times New Roman"/>
                      </a:rPr>
                      <a:t>RECOVERY</a:t>
                    </a: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739200" y="2900160"/>
                    <a:ext cx="21672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235800" y="3539880"/>
                <a:ext cx="2167200" cy="639720"/>
                <a:chOff x="235800" y="3539880"/>
                <a:chExt cx="2167200" cy="639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1640" y="353988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35800" y="353988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403360" y="3539880"/>
                <a:ext cx="2167560" cy="639720"/>
                <a:chOff x="2403360" y="3539880"/>
                <a:chExt cx="2167560" cy="6397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509200" y="353988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40m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03360" y="353988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571640" y="3539880"/>
                <a:ext cx="2167200" cy="639720"/>
                <a:chOff x="4571640" y="3539880"/>
                <a:chExt cx="2167200" cy="639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676760" y="3539880"/>
                  <a:ext cx="195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8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1640" y="353988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739200" y="3539880"/>
                <a:ext cx="2167560" cy="639720"/>
                <a:chOff x="6739200" y="3539880"/>
                <a:chExt cx="2167560" cy="639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845040" y="353988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32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739200" y="353988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5800" y="4179600"/>
                <a:ext cx="2167200" cy="639720"/>
                <a:chOff x="235800" y="4179600"/>
                <a:chExt cx="2167200" cy="639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1640" y="417960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5800" y="417960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403360" y="4179600"/>
                <a:ext cx="2167560" cy="639720"/>
                <a:chOff x="2403360" y="4179600"/>
                <a:chExt cx="2167560" cy="639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509200" y="417960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30m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03360" y="417960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571640" y="4179600"/>
                <a:ext cx="2167200" cy="639720"/>
                <a:chOff x="4571640" y="4179600"/>
                <a:chExt cx="2167200" cy="639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676760" y="4179600"/>
                  <a:ext cx="195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6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571640" y="417960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739200" y="4179600"/>
                <a:ext cx="2167560" cy="639720"/>
                <a:chOff x="6739200" y="4179600"/>
                <a:chExt cx="2167560" cy="639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845040" y="417960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24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39200" y="417960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35800" y="4819320"/>
                <a:ext cx="2167200" cy="639720"/>
                <a:chOff x="235800" y="4819320"/>
                <a:chExt cx="2167200" cy="639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41640" y="481932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5800" y="481932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403360" y="4819320"/>
                <a:ext cx="2167560" cy="639720"/>
                <a:chOff x="2403360" y="4819320"/>
                <a:chExt cx="2167560" cy="639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09200" y="481932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20m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403360" y="481932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571640" y="4819320"/>
                <a:ext cx="2167200" cy="639720"/>
                <a:chOff x="4571640" y="4819320"/>
                <a:chExt cx="2167200" cy="639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676760" y="4819320"/>
                  <a:ext cx="1956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4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571640" y="4819320"/>
                  <a:ext cx="21672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739200" y="4819320"/>
                <a:ext cx="2167560" cy="639720"/>
                <a:chOff x="6739200" y="4819320"/>
                <a:chExt cx="2167560" cy="6397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45040" y="4819320"/>
                  <a:ext cx="1955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ff"/>
                      </a:solidFill>
                      <a:latin typeface="Comic Sans MS"/>
                      <a:ea typeface="Times New Roman"/>
                    </a:rPr>
                    <a:t>16 secs</a:t>
                  </a: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739200" y="4819320"/>
                  <a:ext cx="2167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228600" y="2895480"/>
              <a:ext cx="8686440" cy="256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signing a Training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700280"/>
            <a:ext cx="89154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Before we start to design a training programme to improve our hockey performance we must remember the principles of training that we need to apply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ask – Write down all the principles of training you can remember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Time – 2 mi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Designing a Training Pr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916280"/>
            <a:ext cx="891540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ad pages 21 and 22 in your course notes. 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 your groups create a programme of work for Jill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lain how you have considered all of the principles of training mentioned on pages 21-22.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30T07:35:08Z</dcterms:modified>
  <cp:revision>47</cp:revision>
  <dc:subject/>
  <dc:title>Intermediate PE</dc:title>
</cp:coreProperties>
</file>